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34E0-8132-45C5-9291-62BC8D0A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A4F8-0E4E-4FDC-8710-E9426A14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3AA1-4797-4F2D-8D84-7F5E8C6D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F7FB-CDD4-4F2C-A292-C5B61BC25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B0E9-8CF6-4132-A1FE-FE21B810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7551-BA8E-4FE7-B6BC-10726825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2124-57C3-4FA0-B8E7-64086C67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ED95-D7CA-44E1-8D1E-ACF66987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214A-DE0B-4A19-B525-A99CC61D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724C-E3D2-4862-8D2F-91527D16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4F28-D7BB-4C18-80CA-99EADF87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2169-99F7-41AB-B303-6BCBECA8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4002C-7F5E-4C49-9FBC-82AF2A42F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3760" y="6665760"/>
            <a:ext cx="2209680" cy="76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28800" y="2727360"/>
            <a:ext cx="3875040" cy="21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38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 Web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sh Goodm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y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AP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599840"/>
            <a:ext cx="9070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rt (Web serv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Mine (Web serv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bernate (Ja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atis (Ja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::DBI (Per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ware (Per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ORT (XM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web services are incompa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data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everyone uses Chado (nor will the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APIs are language or system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I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and light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ful (GET, POST, etc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and data model 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high level cross database information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ed URLs for 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 Form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lists (XML, JSON, 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records in Generic Gene Page (GGP)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9324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227240"/>
            <a:ext cx="9070920" cy="585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full text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flybase.org/gmod/v1/search/fulltext/RNA%20bi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y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flybase.org/gmod/v1/search/ontology/mitotic%20spindle%20elon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tho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flybase.org/gmod/v1/search/orthologs/WBGene000065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record retrieval (GGP XM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flybase.org/gmod/v1/fetch/FBgn0026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is make sen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interes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22:04:49Z</dcterms:created>
  <dc:creator>Josh Goodman</dc:creator>
  <dc:description/>
  <dc:language>en-US</dc:language>
  <cp:lastModifiedBy/>
  <dcterms:modified xsi:type="dcterms:W3CDTF">2009-01-15T18:11:25Z</dcterms:modified>
  <cp:revision>14</cp:revision>
  <dc:subject/>
  <dc:title/>
</cp:coreProperties>
</file>